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D15-6ACB-4E33-98B3-7009F91E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9AB-38B0-482E-B125-DC4F18DD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AA8-D98A-43BC-BA07-0B583EFA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F5D-7113-41C0-A389-81270E6E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DE1-D7AA-4A49-8226-63A43B3B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6A9-C597-44FE-9BFC-F374E4F6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5E9-D060-47CD-9DAF-E898FD3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7B0-631F-4760-9AA8-CE6FD4C4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AF8-49E3-4F06-92D6-C2E7F823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2FE-8812-4DD2-AB6F-791AEC8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71C-8125-4B08-81C5-6DB59192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B03-1906-410F-894A-F6CC7703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01A6-5953-44D7-B4D6-844724DA5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 &amp;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step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different locations 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ajor types of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biologyeoc.wikispaces.com/Anaerobic+Respi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7120" y="1981080"/>
            <a:ext cx="55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Redox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-transfer reaction in which potential E of electrons is transferred from one substance to another, releasing free energy at each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process of losing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process of gaining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cikguwong.blogspot.com/2011/06/chemistry-form-5-chapter-3-redox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som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ment reaction to create a molecule whose shape is more conducive to anoth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campus.northpark.edu/biology/cell/glycolysis2.gif"/>
          <p:cNvPicPr/>
          <p:nvPr/>
        </p:nvPicPr>
        <p:blipFill>
          <a:blip r:embed="rId1"/>
          <a:stretch/>
        </p:blipFill>
        <p:spPr>
          <a:xfrm>
            <a:off x="871560" y="3664080"/>
            <a:ext cx="735804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Decarboxyl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en.wikipedia.org/wiki/File:Pyruvate_decarboxylation.p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is removed from a molecule to form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3527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osphate group, with its high energy bond, is attached to a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campus.northpark.edu/biology/cell/glycolysis1.gif"/>
          <p:cNvPicPr/>
          <p:nvPr/>
        </p:nvPicPr>
        <p:blipFill>
          <a:blip r:embed="rId1"/>
          <a:stretch/>
        </p:blipFill>
        <p:spPr>
          <a:xfrm>
            <a:off x="1143000" y="3624120"/>
            <a:ext cx="71438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P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can be produc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rate-level phosphory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rect formation through enzyme-catalyzed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ve phosphory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direct formation through chemiosmotic grad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br>
              <a:rPr sz="41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bio.miami.edu/~cmallery/150/makeatp/SLP.jp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06560" y="1981080"/>
            <a:ext cx="353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sparknotes.com/biology/cellrespiration/oxidativephosphorylation/section3.r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76360" y="1981080"/>
            <a:ext cx="438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urvive, living organisms need to be able to take in energy from their environment and convert it to usable 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autotro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form light E into chemical potenti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troph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on other organisms (including autotrophs) to obtain chemical potenti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rganisms use glucose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s their primary source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is broken down in a series of reactions, rearranging the atoms into molecules with greater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all reaction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g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acsbiology.info/Respiration.asp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50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ergy released from cellular respiration is transferred to molecules of adenosine triphosphate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ergy stored in ATP can be used directly by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TP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library.thinkquest.org/C004535/cellular_currency:_atp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61960" y="1981080"/>
            <a:ext cx="621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science-autism.org/Mitochondrial%20disease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ctions of cellular respiration occur in the cytoplasm and the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089080"/>
            <a:ext cx="3809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Reactions of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1:56:34Z</dcterms:created>
  <dc:creator>rubina khan</dc:creator>
  <dc:description/>
  <dc:language>en-US</dc:language>
  <cp:lastModifiedBy>rubina khan</cp:lastModifiedBy>
  <dcterms:modified xsi:type="dcterms:W3CDTF">2012-03-22T16:26:36Z</dcterms:modified>
  <cp:revision>32</cp:revision>
  <dc:subject/>
  <dc:title>Cellular Respiration</dc:title>
</cp:coreProperties>
</file>